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CBF-5549-4F2A-A427-D7DCC63C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0A7-8AEE-4E35-8FE5-26C38E62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4BC-0F2A-4254-9A71-F6EE11A9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343-B3BE-43A9-8FDF-E7B1FA67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77D-1B86-40A5-B9B0-81D10C47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F9B-C065-4371-AF2B-454D2F79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645-7CCC-4E21-A9E5-51C15E33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177-6FF5-4D43-BB88-7735B48D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43F-3B7C-430C-B16F-7C4FB749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951-3165-48DF-A207-35B2F0BA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4C87-7FBB-4BAF-A7FE-C5E4E986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309-FA60-4F1A-A7D6-99C0F4E0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urlz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urlz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urlz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urlz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urlz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F8E2-0AC0-4C46-99B9-F7E41B77A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606400">
            <a:off x="428760" y="13806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urlz MT"/>
              </a:rPr>
              <a:t>Do You Cry?</a:t>
            </a:r>
            <a:endParaRPr b="0" lang="en-US" sz="9600" spc="-1" strike="noStrike">
              <a:solidFill>
                <a:srgbClr val="000000"/>
              </a:solidFill>
              <a:latin typeface="Curlz MT"/>
            </a:endParaRPr>
          </a:p>
        </p:txBody>
      </p:sp>
      <p:pic>
        <p:nvPicPr>
          <p:cNvPr id="42" name="Picture 6" descr="DSCN4827.JPG"/>
          <p:cNvPicPr/>
          <p:nvPr/>
        </p:nvPicPr>
        <p:blipFill>
          <a:blip r:embed="rId1"/>
          <a:stretch/>
        </p:blipFill>
        <p:spPr>
          <a:xfrm rot="21131400">
            <a:off x="4117680" y="3112560"/>
            <a:ext cx="3378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Thanks to Mrs. Riffel for letting us have class time to work on our project. Also thanks to my mom for buying my materials. 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pic>
        <p:nvPicPr>
          <p:cNvPr id="65" name="Picture 5" descr="DSCN4831.JPG"/>
          <p:cNvPicPr/>
          <p:nvPr/>
        </p:nvPicPr>
        <p:blipFill>
          <a:blip r:embed="rId1"/>
          <a:stretch/>
        </p:blipFill>
        <p:spPr>
          <a:xfrm rot="20469000">
            <a:off x="5040000" y="35989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Does chilling an onion make it so that you don’t cry?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pic>
        <p:nvPicPr>
          <p:cNvPr id="45" name="Picture 5" descr="DSCN4832.JPG"/>
          <p:cNvPicPr/>
          <p:nvPr/>
        </p:nvPicPr>
        <p:blipFill>
          <a:blip r:embed="rId1"/>
          <a:stretch/>
        </p:blipFill>
        <p:spPr>
          <a:xfrm rot="1334400">
            <a:off x="4749480" y="3403440"/>
            <a:ext cx="3149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I think that it will, because the vapors in the onion are cooled down. 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2 onions (one chilled, one unchilled)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Stopwatch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Paper/Pencil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My Family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pic>
        <p:nvPicPr>
          <p:cNvPr id="50" name="Picture 5" descr="DSCN4829.JPG"/>
          <p:cNvPicPr/>
          <p:nvPr/>
        </p:nvPicPr>
        <p:blipFill>
          <a:blip r:embed="rId1"/>
          <a:stretch/>
        </p:blipFill>
        <p:spPr>
          <a:xfrm rot="20255400">
            <a:off x="5105160" y="380952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Gather all materials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Buy two onions from the store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Put one in the fridge, and leave one out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Test the Unchilled onion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Test the Chilled onion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pic>
        <p:nvPicPr>
          <p:cNvPr id="53" name="Picture 3" descr="DSCN4828.JPG"/>
          <p:cNvPicPr/>
          <p:nvPr/>
        </p:nvPicPr>
        <p:blipFill>
          <a:blip r:embed="rId1"/>
          <a:stretch/>
        </p:blipFill>
        <p:spPr>
          <a:xfrm rot="1218600">
            <a:off x="5638320" y="419076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Variable: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Same onions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Same refrigerator 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Dependant Variable: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Whether or not they cry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Independent Variable: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Chilled or Unchilled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Unchilled: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Dad- Chopped for 35 seconds and eyes were burning 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Mom- Chopped for 35 seconds and eyes were burning, at 52 seconds she was crying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Kash- Chopped for 3 minutes and had no burning or crying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Myself- Instantly burned, cried at 45 seconds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Results (continued)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Chilled:</a:t>
            </a:r>
            <a:endParaRPr b="0" lang="en-US" sz="2800" spc="-1" strike="noStrike">
              <a:solidFill>
                <a:srgbClr val="000000"/>
              </a:solidFill>
              <a:latin typeface="Curlz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Dad- Chopped for 42 seconds and eyes were burning, at 1 minute 17 seconds started crying</a:t>
            </a:r>
            <a:endParaRPr b="0" lang="en-US" sz="2800" spc="-1" strike="noStrike">
              <a:solidFill>
                <a:srgbClr val="000000"/>
              </a:solidFill>
              <a:latin typeface="Curlz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Mom- Chopped for 53 seconds and eyes were burning, at 1 minute 17 seconds started crying</a:t>
            </a:r>
            <a:endParaRPr b="0" lang="en-US" sz="2800" spc="-1" strike="noStrike">
              <a:solidFill>
                <a:srgbClr val="000000"/>
              </a:solidFill>
              <a:latin typeface="Curlz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Kash- Chopped for 2 minutes and had no irritation</a:t>
            </a:r>
            <a:endParaRPr b="0" lang="en-US" sz="2800" spc="-1" strike="noStrike">
              <a:solidFill>
                <a:srgbClr val="000000"/>
              </a:solidFill>
              <a:latin typeface="Curlz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Myself- Chopped for 30 seconds and at 45 seconds started crying</a:t>
            </a:r>
            <a:endParaRPr b="0" lang="en-US" sz="2800" spc="-1" strike="noStrike">
              <a:solidFill>
                <a:srgbClr val="000000"/>
              </a:solidFill>
              <a:latin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In conclusion my hypothesis was correct! Chilling the onion did help, by a bit. I think that it is because of the vapors and how they get cooled down. Then they don’t irratate the eyes as much. 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pic>
        <p:nvPicPr>
          <p:cNvPr id="62" name="Picture 5" descr="DSCN4830.JPG"/>
          <p:cNvPicPr/>
          <p:nvPr/>
        </p:nvPicPr>
        <p:blipFill>
          <a:blip r:embed="rId1"/>
          <a:stretch/>
        </p:blipFill>
        <p:spPr>
          <a:xfrm rot="875400">
            <a:off x="5847840" y="4189320"/>
            <a:ext cx="26672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6:44:51Z</dcterms:created>
  <dc:creator>USD376</dc:creator>
  <dc:description/>
  <dc:language>en-US</dc:language>
  <cp:lastModifiedBy>USD376</cp:lastModifiedBy>
  <dcterms:modified xsi:type="dcterms:W3CDTF">2010-02-10T17:06:45Z</dcterms:modified>
  <cp:revision>9</cp:revision>
  <dc:subject/>
  <dc:title>Do You Cry?</dc:title>
</cp:coreProperties>
</file>